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A709-66D3-45DB-A1FD-95278B835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2B5D-9984-4C94-A8F0-F5D19B39F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AB1E-A998-45DE-BDD7-DB4ECDE22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C89C-0CF5-4F97-9BE1-980050164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F4CE-7C97-4CB2-B42A-7298A34A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DC9-8532-41BA-AB66-B91C0E4C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A3B3-C613-462D-A68B-AA830212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B5F-CA7A-4FB9-89FD-01CDFCA6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C23-E143-42A0-88EA-78B5C1DB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A15-3E2E-443C-90C4-AF4BBDE9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8A8A-0A72-4793-828B-23828156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5715-D77C-42E7-8135-94DB0E01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199-31C1-4015-A2BE-7C00CAB9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CD3F-D16C-4DA8-9447-02C02EBD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0130-6F8E-4FBC-A659-23CD2460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02CE-6D1D-4E76-817A-81F3FDE8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0373-4577-4683-803D-1906C9960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"/>
          <p:cNvGrpSpPr/>
          <p:nvPr/>
        </p:nvGrpSpPr>
        <p:grpSpPr>
          <a:xfrm>
            <a:off x="-125280" y="1374120"/>
            <a:ext cx="8503920" cy="5539320"/>
            <a:chOff x="-125280" y="1374120"/>
            <a:chExt cx="8503920" cy="5539320"/>
          </a:xfrm>
        </p:grpSpPr>
        <p:sp>
          <p:nvSpPr>
            <p:cNvPr id="49" name="Gear"/>
            <p:cNvSpPr/>
            <p:nvPr/>
          </p:nvSpPr>
          <p:spPr>
            <a:xfrm rot="447600">
              <a:off x="4640760" y="1597680"/>
              <a:ext cx="3598920" cy="237564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 rot="447600">
              <a:off x="40680" y="2030400"/>
              <a:ext cx="4303080" cy="284004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 rot="447600">
              <a:off x="2649600" y="3461400"/>
              <a:ext cx="4782240" cy="315468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Calibri"/>
              </a:rPr>
              <a:t>Now We Make Our Gears Wor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c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Program of Study for 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0880" y="1600200"/>
          <a:ext cx="8305920" cy="5187960"/>
        </p:xfrm>
        <a:graphic>
          <a:graphicData uri="http://schemas.openxmlformats.org/drawingml/2006/table">
            <a:tbl>
              <a:tblPr/>
              <a:tblGrid>
                <a:gridCol w="1078200"/>
                <a:gridCol w="1077840"/>
                <a:gridCol w="1141200"/>
                <a:gridCol w="1141560"/>
                <a:gridCol w="1077840"/>
                <a:gridCol w="1393920"/>
                <a:gridCol w="1395360"/>
              </a:tblGrid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mily-Focused Comprehensiv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rs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CS Work of the Family Found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CS Work and Fami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ual Purpose Cou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reer Focused Cou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ustry Learning Experi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rt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t-Secondary Artic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t-Secondary Dual-Cre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5" name="Picture 244" descr="gears"/>
          <p:cNvPicPr/>
          <p:nvPr/>
        </p:nvPicPr>
        <p:blipFill>
          <a:blip r:embed="rId1"/>
          <a:stretch/>
        </p:blipFill>
        <p:spPr>
          <a:xfrm>
            <a:off x="304920" y="380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5" descr="gears"/>
          <p:cNvPicPr/>
          <p:nvPr/>
        </p:nvPicPr>
        <p:blipFill>
          <a:blip r:embed="rId2"/>
          <a:stretch/>
        </p:blipFill>
        <p:spPr>
          <a:xfrm>
            <a:off x="8229600" y="380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Program of Study for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Calibri"/>
              </a:rPr>
              <a:t>Diete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1523880"/>
          <a:ext cx="1143000" cy="487548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67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Family-Focused Comprehensive Cour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FCS Work of t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Family Found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overing Family and Consumer Sci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eer and Family Leader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tion and Wellne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ily/ Individual Heal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371600" y="1523880"/>
          <a:ext cx="1219320" cy="48769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FCS Work and Fami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Dual Purpose Cou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ci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eer Development &amp; Entrepreneurshi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 St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886200" y="1523880"/>
          <a:ext cx="1143000" cy="487692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Industry Learning Exper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ship at health care facility, community agency or a foodservice corpo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324480" y="1523880"/>
          <a:ext cx="1219320" cy="48769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Post-Secondary Artic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east Missouri State Univers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-Human Environmental Stud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-Nutrition and Exercis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-Dietetic internsh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590920" y="1523880"/>
          <a:ext cx="1295280" cy="487692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Career Focused 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rvice Wor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linary 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rvice Administration/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tician Assis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029200" y="1523880"/>
          <a:ext cx="1295280" cy="487692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Cert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American Dietetic Association National Ex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7543800" y="1523880"/>
          <a:ext cx="1295280" cy="487548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Post-Secondary  Dual Cre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east Missouri State Univers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-Human Environmental Stud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-Nutrition and Exercis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-Dietetic internsh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1:56:22Z</dcterms:created>
  <dc:creator> </dc:creator>
  <dc:description/>
  <dc:language>en-US</dc:language>
  <cp:lastModifiedBy>clefon</cp:lastModifiedBy>
  <dcterms:modified xsi:type="dcterms:W3CDTF">2008-10-07T02:28:44Z</dcterms:modified>
  <cp:revision>20</cp:revision>
  <dc:subject/>
  <dc:title>Now We Make Our Gears Work</dc:title>
</cp:coreProperties>
</file>